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309E3-A41A-4853-8FA1-3116312EE2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entralized client-serv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K-MODIFY-UNLOCK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C11EC-DC71-4DF1-BC21-7475843BF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B4D85-7345-489D-B0B4-9136F5847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A7A98-7A30-4C0F-9BF5-5755668A1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46807-D2A2-412E-8DE4-5AA0A56D7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B4ECF-F021-4B3E-820F-8E8B66BAA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9FA74-E8F8-4579-BD51-F360BB2AD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4A3AA-547D-4AED-9751-8BBE2BD45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9668B-2C96-4531-884F-2DE6B02CC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4BF5B-2C0E-4B16-A32D-729E18CAA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D8D4B-B9B3-4DC3-B57D-41C4FA28F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2DB8D-5EAD-4524-A3E5-088400084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17493-E20A-46D0-8DBB-79FB9CD6F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13C69-E9CC-4657-8561-3C2FD822F9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747960" y="19288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41640" y="14842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43600" y="2919240"/>
            <a:ext cx="974520" cy="87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7200" y="3228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79280" y="3220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35480" y="40528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44920" y="372888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8272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7720" y="3716280"/>
            <a:ext cx="7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7044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5280" y="37274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54440" y="2944800"/>
            <a:ext cx="36720" cy="83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64880" y="3219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411360" y="2933280"/>
            <a:ext cx="744840" cy="85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12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06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73520" y="296064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read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863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818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18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772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093680" y="4805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42120" y="4881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60760" y="6342120"/>
            <a:ext cx="28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publishes his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2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918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71784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08080" y="48704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01400" y="6330960"/>
            <a:ext cx="39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accidentally overwrites Harry’s ver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65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95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138320" y="4784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4120" y="4908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3280" y="2936880"/>
            <a:ext cx="396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“locks” file A, then copies it for edi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870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39920" y="2949480"/>
            <a:ext cx="380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le Harry edits, Sally’s lock attempt fai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76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4240" y="6351480"/>
            <a:ext cx="40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writes his version, then releases his lo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449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90740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08720" y="477036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73320" y="48355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50120" y="6354720"/>
            <a:ext cx="44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Sally can lock, read, and edit the latest ver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HH00272_" descr=""/>
          <p:cNvPicPr/>
          <p:nvPr/>
        </p:nvPicPr>
        <p:blipFill>
          <a:blip r:embed="rId1"/>
          <a:stretch/>
        </p:blipFill>
        <p:spPr>
          <a:xfrm>
            <a:off x="1893960" y="73656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V="1">
            <a:off x="13320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7760" y="501984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7142040" y="145548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68360" y="14479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221600" y="1676520"/>
            <a:ext cx="531720" cy="27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256160" y="1650960"/>
            <a:ext cx="438120" cy="309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HH00272_" descr=""/>
          <p:cNvPicPr/>
          <p:nvPr/>
        </p:nvPicPr>
        <p:blipFill>
          <a:blip r:embed="rId2"/>
          <a:stretch/>
        </p:blipFill>
        <p:spPr>
          <a:xfrm>
            <a:off x="6392880" y="73512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flipV="1">
            <a:off x="1171440" y="140940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7560" y="14860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353960" y="141912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17120" y="1644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7162560" y="48258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47560" y="505944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HH00272_" descr=""/>
          <p:cNvPicPr/>
          <p:nvPr/>
        </p:nvPicPr>
        <p:blipFill>
          <a:blip r:embed="rId3"/>
          <a:stretch/>
        </p:blipFill>
        <p:spPr>
          <a:xfrm>
            <a:off x="6391440" y="4070520"/>
            <a:ext cx="2235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8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49760" y="2960640"/>
            <a:ext cx="26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copy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640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59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956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354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673000" y="48160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59560" y="49276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05400" y="6342120"/>
            <a:ext cx="28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publishes her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007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8962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67320" y="63309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gets an “out-of-date” erro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670720" y="47811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67880" y="4857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02400" y="4954680"/>
            <a:ext cx="447480" cy="295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678280" y="5000760"/>
            <a:ext cx="533160" cy="23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0004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552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9440" y="2960640"/>
            <a:ext cx="385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compares the latest version to his ow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7520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7068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0200" y="29606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ew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rg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ersion is cre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0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46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10440" y="47926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97000" y="4903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4800" y="634212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erged version is publish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1156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0740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31440" y="6343560"/>
            <a:ext cx="36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both users have each others’ chan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117440" y="48067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65880" y="4883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ile"/>
          <p:cNvSpPr/>
          <p:nvPr/>
        </p:nvSpPr>
        <p:spPr>
          <a:xfrm>
            <a:off x="3824280" y="105264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ile"/>
          <p:cNvSpPr/>
          <p:nvPr/>
        </p:nvSpPr>
        <p:spPr>
          <a:xfrm>
            <a:off x="3833640" y="377676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ile"/>
          <p:cNvSpPr/>
          <p:nvPr/>
        </p:nvSpPr>
        <p:spPr>
          <a:xfrm>
            <a:off x="2919240" y="47628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5" idx="6"/>
            <a:endCxn id="234" idx="6"/>
          </p:cNvCxnSpPr>
          <p:nvPr/>
        </p:nvCxnSpPr>
        <p:spPr>
          <a:xfrm flipH="1" rot="16200000">
            <a:off x="2044440" y="2221560"/>
            <a:ext cx="3067920" cy="510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35" idx="7"/>
            <a:endCxn id="233" idx="6"/>
          </p:cNvCxnSpPr>
          <p:nvPr/>
        </p:nvCxnSpPr>
        <p:spPr>
          <a:xfrm flipH="1" rot="16200000">
            <a:off x="3401640" y="864000"/>
            <a:ext cx="343800" cy="500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8" name="Document"/>
          <p:cNvSpPr/>
          <p:nvPr/>
        </p:nvSpPr>
        <p:spPr>
          <a:xfrm>
            <a:off x="4781520" y="159552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Document"/>
          <p:cNvSpPr/>
          <p:nvPr/>
        </p:nvSpPr>
        <p:spPr>
          <a:xfrm>
            <a:off x="4791240" y="2390760"/>
            <a:ext cx="40932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Document"/>
          <p:cNvSpPr/>
          <p:nvPr/>
        </p:nvSpPr>
        <p:spPr>
          <a:xfrm>
            <a:off x="4805280" y="317664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22880" y="172872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32240" y="25239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46640" y="330984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ton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33" idx="7"/>
            <a:endCxn id="240" idx="8"/>
          </p:cNvCxnSpPr>
          <p:nvPr/>
        </p:nvCxnSpPr>
        <p:spPr>
          <a:xfrm flipH="1" rot="16200000">
            <a:off x="3551040" y="219600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33" idx="8"/>
            <a:endCxn id="239" idx="8"/>
          </p:cNvCxnSpPr>
          <p:nvPr/>
        </p:nvCxnSpPr>
        <p:spPr>
          <a:xfrm flipH="1" rot="16200000">
            <a:off x="3936960" y="1810440"/>
            <a:ext cx="114696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stCxn id="233" idx="9"/>
            <a:endCxn id="238" idx="8"/>
          </p:cNvCxnSpPr>
          <p:nvPr/>
        </p:nvCxnSpPr>
        <p:spPr>
          <a:xfrm flipH="1" rot="16200000">
            <a:off x="4330800" y="1417320"/>
            <a:ext cx="351360" cy="554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7" name="Document"/>
          <p:cNvSpPr/>
          <p:nvPr/>
        </p:nvSpPr>
        <p:spPr>
          <a:xfrm>
            <a:off x="4776840" y="436248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Document"/>
          <p:cNvSpPr/>
          <p:nvPr/>
        </p:nvSpPr>
        <p:spPr>
          <a:xfrm>
            <a:off x="4786200" y="5157720"/>
            <a:ext cx="409680" cy="547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Document"/>
          <p:cNvSpPr/>
          <p:nvPr/>
        </p:nvSpPr>
        <p:spPr>
          <a:xfrm>
            <a:off x="4800600" y="594360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18200" y="449568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27560" y="529128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vas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41960" y="607680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ush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endCxn id="249" idx="8"/>
          </p:cNvCxnSpPr>
          <p:nvPr/>
        </p:nvCxnSpPr>
        <p:spPr>
          <a:xfrm flipH="1" rot="16200000">
            <a:off x="3546000" y="496296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endCxn id="248" idx="8"/>
          </p:cNvCxnSpPr>
          <p:nvPr/>
        </p:nvCxnSpPr>
        <p:spPr>
          <a:xfrm flipH="1" rot="16200000">
            <a:off x="3933000" y="4577040"/>
            <a:ext cx="1146960" cy="564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endCxn id="247" idx="8"/>
          </p:cNvCxnSpPr>
          <p:nvPr/>
        </p:nvCxnSpPr>
        <p:spPr>
          <a:xfrm flipH="1" rot="16200000">
            <a:off x="4325040" y="4183920"/>
            <a:ext cx="3513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3975120" y="1746360"/>
            <a:ext cx="1151640" cy="2534040"/>
            <a:chOff x="3975120" y="1746360"/>
            <a:chExt cx="1151640" cy="2534040"/>
          </a:xfrm>
        </p:grpSpPr>
        <p:sp>
          <p:nvSpPr>
            <p:cNvPr id="257" name="File"/>
            <p:cNvSpPr/>
            <p:nvPr/>
          </p:nvSpPr>
          <p:spPr>
            <a:xfrm>
              <a:off x="3975120" y="1746360"/>
              <a:ext cx="40680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File"/>
            <p:cNvSpPr/>
            <p:nvPr/>
          </p:nvSpPr>
          <p:spPr>
            <a:xfrm>
              <a:off x="4430880" y="2076840"/>
              <a:ext cx="40320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File"/>
            <p:cNvSpPr/>
            <p:nvPr/>
          </p:nvSpPr>
          <p:spPr>
            <a:xfrm>
              <a:off x="4433760" y="3635280"/>
              <a:ext cx="40608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>
              <a:stCxn id="257" idx="6"/>
              <a:endCxn id="259" idx="6"/>
            </p:cNvCxnSpPr>
            <p:nvPr/>
          </p:nvCxnSpPr>
          <p:spPr>
            <a:xfrm flipH="1" rot="16200000">
              <a:off x="3427920" y="2762280"/>
              <a:ext cx="1755000" cy="257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7" idx="7"/>
              <a:endCxn id="258" idx="6"/>
            </p:cNvCxnSpPr>
            <p:nvPr/>
          </p:nvCxnSpPr>
          <p:spPr>
            <a:xfrm flipH="1" rot="16200000">
              <a:off x="4205880" y="1984680"/>
              <a:ext cx="196560" cy="254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2" name="Document"/>
            <p:cNvSpPr/>
            <p:nvPr/>
          </p:nvSpPr>
          <p:spPr>
            <a:xfrm>
              <a:off x="4908600" y="23850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Document"/>
            <p:cNvSpPr/>
            <p:nvPr/>
          </p:nvSpPr>
          <p:spPr>
            <a:xfrm>
              <a:off x="4915080" y="2841120"/>
              <a:ext cx="20484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Document"/>
            <p:cNvSpPr/>
            <p:nvPr/>
          </p:nvSpPr>
          <p:spPr>
            <a:xfrm>
              <a:off x="4921920" y="32904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58" idx="7"/>
              <a:endCxn id="264" idx="8"/>
            </p:cNvCxnSpPr>
            <p:nvPr/>
          </p:nvCxnSpPr>
          <p:spPr>
            <a:xfrm flipH="1" rot="16200000">
              <a:off x="4224960" y="2749680"/>
              <a:ext cx="1103040" cy="290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"/>
            <p:cNvCxnSpPr>
              <a:stCxn id="258" idx="8"/>
              <a:endCxn id="263" idx="8"/>
            </p:cNvCxnSpPr>
            <p:nvPr/>
          </p:nvCxnSpPr>
          <p:spPr>
            <a:xfrm flipH="1" rot="16200000">
              <a:off x="4447080" y="2527920"/>
              <a:ext cx="65340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58" idx="9"/>
              <a:endCxn id="262" idx="8"/>
            </p:cNvCxnSpPr>
            <p:nvPr/>
          </p:nvCxnSpPr>
          <p:spPr>
            <a:xfrm flipH="1" rot="16200000">
              <a:off x="4670280" y="230508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8" name="Document"/>
            <p:cNvSpPr/>
            <p:nvPr/>
          </p:nvSpPr>
          <p:spPr>
            <a:xfrm>
              <a:off x="4905720" y="3969360"/>
              <a:ext cx="20772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9" name=""/>
            <p:cNvCxnSpPr>
              <a:endCxn id="268" idx="8"/>
            </p:cNvCxnSpPr>
            <p:nvPr/>
          </p:nvCxnSpPr>
          <p:spPr>
            <a:xfrm flipH="1" rot="16200000">
              <a:off x="4665240" y="3884400"/>
              <a:ext cx="20088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0" name=""/>
          <p:cNvGrpSpPr/>
          <p:nvPr/>
        </p:nvGrpSpPr>
        <p:grpSpPr>
          <a:xfrm>
            <a:off x="5176800" y="1755720"/>
            <a:ext cx="1152360" cy="3443040"/>
            <a:chOff x="5176800" y="1755720"/>
            <a:chExt cx="1152360" cy="3443040"/>
          </a:xfrm>
        </p:grpSpPr>
        <p:sp>
          <p:nvSpPr>
            <p:cNvPr id="271" name="File"/>
            <p:cNvSpPr/>
            <p:nvPr/>
          </p:nvSpPr>
          <p:spPr>
            <a:xfrm>
              <a:off x="5176800" y="175572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ile"/>
            <p:cNvSpPr/>
            <p:nvPr/>
          </p:nvSpPr>
          <p:spPr>
            <a:xfrm>
              <a:off x="5631120" y="208548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File"/>
            <p:cNvSpPr/>
            <p:nvPr/>
          </p:nvSpPr>
          <p:spPr>
            <a:xfrm>
              <a:off x="5635800" y="364500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stCxn id="271" idx="6"/>
              <a:endCxn id="273" idx="6"/>
            </p:cNvCxnSpPr>
            <p:nvPr/>
          </p:nvCxnSpPr>
          <p:spPr>
            <a:xfrm flipH="1" rot="16200000">
              <a:off x="4629600" y="2772360"/>
              <a:ext cx="1756440" cy="255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5" name=""/>
            <p:cNvCxnSpPr>
              <a:stCxn id="271" idx="7"/>
              <a:endCxn id="272" idx="6"/>
            </p:cNvCxnSpPr>
            <p:nvPr/>
          </p:nvCxnSpPr>
          <p:spPr>
            <a:xfrm flipH="1" rot="16200000">
              <a:off x="5406120" y="1994760"/>
              <a:ext cx="196920" cy="251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6" name="Document"/>
            <p:cNvSpPr/>
            <p:nvPr/>
          </p:nvSpPr>
          <p:spPr>
            <a:xfrm>
              <a:off x="6111720" y="23961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Document"/>
            <p:cNvSpPr/>
            <p:nvPr/>
          </p:nvSpPr>
          <p:spPr>
            <a:xfrm>
              <a:off x="6116760" y="2851560"/>
              <a:ext cx="20520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Document"/>
            <p:cNvSpPr/>
            <p:nvPr/>
          </p:nvSpPr>
          <p:spPr>
            <a:xfrm>
              <a:off x="6123600" y="3301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" name=""/>
            <p:cNvCxnSpPr>
              <a:stCxn id="272" idx="7"/>
              <a:endCxn id="278" idx="8"/>
            </p:cNvCxnSpPr>
            <p:nvPr/>
          </p:nvCxnSpPr>
          <p:spPr>
            <a:xfrm flipH="1" rot="16200000">
              <a:off x="5426640" y="2760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0" name=""/>
            <p:cNvCxnSpPr>
              <a:stCxn id="272" idx="8"/>
              <a:endCxn id="277" idx="8"/>
            </p:cNvCxnSpPr>
            <p:nvPr/>
          </p:nvCxnSpPr>
          <p:spPr>
            <a:xfrm flipH="1" rot="16200000">
              <a:off x="5646960" y="2539080"/>
              <a:ext cx="656640" cy="283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1" name=""/>
            <p:cNvCxnSpPr>
              <a:stCxn id="272" idx="9"/>
              <a:endCxn id="276" idx="8"/>
            </p:cNvCxnSpPr>
            <p:nvPr/>
          </p:nvCxnSpPr>
          <p:spPr>
            <a:xfrm flipH="1" rot="16200000">
              <a:off x="5873040" y="2314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2" name="Document"/>
            <p:cNvSpPr/>
            <p:nvPr/>
          </p:nvSpPr>
          <p:spPr>
            <a:xfrm>
              <a:off x="6109560" y="398052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Document"/>
            <p:cNvSpPr/>
            <p:nvPr/>
          </p:nvSpPr>
          <p:spPr>
            <a:xfrm>
              <a:off x="6114240" y="4435560"/>
              <a:ext cx="205560" cy="31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Document"/>
            <p:cNvSpPr/>
            <p:nvPr/>
          </p:nvSpPr>
          <p:spPr>
            <a:xfrm>
              <a:off x="6121440" y="4885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5" name=""/>
            <p:cNvCxnSpPr>
              <a:endCxn id="284" idx="8"/>
            </p:cNvCxnSpPr>
            <p:nvPr/>
          </p:nvCxnSpPr>
          <p:spPr>
            <a:xfrm flipH="1" rot="16200000">
              <a:off x="5424120" y="4344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"/>
            <p:cNvCxnSpPr>
              <a:endCxn id="283" idx="8"/>
            </p:cNvCxnSpPr>
            <p:nvPr/>
          </p:nvCxnSpPr>
          <p:spPr>
            <a:xfrm flipH="1" rot="16200000">
              <a:off x="5645520" y="4122720"/>
              <a:ext cx="65664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endCxn id="282" idx="8"/>
            </p:cNvCxnSpPr>
            <p:nvPr/>
          </p:nvCxnSpPr>
          <p:spPr>
            <a:xfrm flipH="1" rot="16200000">
              <a:off x="5870520" y="3898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8" name=""/>
          <p:cNvGrpSpPr/>
          <p:nvPr/>
        </p:nvGrpSpPr>
        <p:grpSpPr>
          <a:xfrm>
            <a:off x="2782800" y="1744560"/>
            <a:ext cx="1152000" cy="1859760"/>
            <a:chOff x="2782800" y="1744560"/>
            <a:chExt cx="1152000" cy="1859760"/>
          </a:xfrm>
        </p:grpSpPr>
        <p:sp>
          <p:nvSpPr>
            <p:cNvPr id="289" name="File"/>
            <p:cNvSpPr/>
            <p:nvPr/>
          </p:nvSpPr>
          <p:spPr>
            <a:xfrm>
              <a:off x="2782800" y="174456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ile"/>
            <p:cNvSpPr/>
            <p:nvPr/>
          </p:nvSpPr>
          <p:spPr>
            <a:xfrm>
              <a:off x="3238920" y="2074320"/>
              <a:ext cx="40284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1" name=""/>
            <p:cNvCxnSpPr>
              <a:stCxn id="289" idx="6"/>
              <a:endCxn id="290" idx="6"/>
            </p:cNvCxnSpPr>
            <p:nvPr/>
          </p:nvCxnSpPr>
          <p:spPr>
            <a:xfrm flipH="1" rot="16200000">
              <a:off x="3012120" y="1982520"/>
              <a:ext cx="197640" cy="254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2" name="Document"/>
            <p:cNvSpPr/>
            <p:nvPr/>
          </p:nvSpPr>
          <p:spPr>
            <a:xfrm>
              <a:off x="3717360" y="238248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Document"/>
            <p:cNvSpPr/>
            <p:nvPr/>
          </p:nvSpPr>
          <p:spPr>
            <a:xfrm>
              <a:off x="3723840" y="2839680"/>
              <a:ext cx="204480" cy="311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Document"/>
            <p:cNvSpPr/>
            <p:nvPr/>
          </p:nvSpPr>
          <p:spPr>
            <a:xfrm>
              <a:off x="3729600" y="328860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5" name=""/>
            <p:cNvCxnSpPr>
              <a:stCxn id="290" idx="7"/>
              <a:endCxn id="294" idx="8"/>
            </p:cNvCxnSpPr>
            <p:nvPr/>
          </p:nvCxnSpPr>
          <p:spPr>
            <a:xfrm flipH="1" rot="16200000">
              <a:off x="3032640" y="2748240"/>
              <a:ext cx="1102680" cy="289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6" name=""/>
            <p:cNvCxnSpPr>
              <a:stCxn id="290" idx="8"/>
              <a:endCxn id="293" idx="8"/>
            </p:cNvCxnSpPr>
            <p:nvPr/>
          </p:nvCxnSpPr>
          <p:spPr>
            <a:xfrm flipH="1" rot="16200000">
              <a:off x="3254760" y="2526840"/>
              <a:ext cx="653760" cy="284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7" name=""/>
            <p:cNvCxnSpPr>
              <a:stCxn id="290" idx="9"/>
              <a:endCxn id="292" idx="8"/>
            </p:cNvCxnSpPr>
            <p:nvPr/>
          </p:nvCxnSpPr>
          <p:spPr>
            <a:xfrm flipH="1" rot="16200000">
              <a:off x="3478680" y="230364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98" name="File"/>
          <p:cNvSpPr/>
          <p:nvPr/>
        </p:nvSpPr>
        <p:spPr>
          <a:xfrm>
            <a:off x="1746360" y="1744560"/>
            <a:ext cx="407880" cy="2685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14600" y="1069920"/>
            <a:ext cx="5576760" cy="795240"/>
          </a:xfrm>
          <a:prstGeom prst="rightArrow">
            <a:avLst>
              <a:gd name="adj1" fmla="val 38519"/>
              <a:gd name="adj2" fmla="val 776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25560" y="1325520"/>
            <a:ext cx="3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52640" y="1325520"/>
            <a:ext cx="3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49640" y="133200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61040" y="133200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. Michael Pilato</cp:lastModifiedBy>
  <dcterms:modified xsi:type="dcterms:W3CDTF">2004-02-18T04:35:09Z</dcterms:modified>
  <cp:revision>39</cp:revision>
  <dc:subject/>
  <dc:title>PowerPoint Presentation</dc:title>
</cp:coreProperties>
</file>